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C7E-D27C-4CAE-B182-E522050C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81C-2639-4AAF-8EC8-5FDC7ABA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3A6-2F7B-4FF7-A49D-BA371776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00B-17D6-4912-87D6-CDC63DCC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DC8-9106-4E9B-B760-140FEAB7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0F8-D31E-42D5-A856-6D815796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C09-91BB-4CE5-A89E-2F35855E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473-7CF5-48D5-9C77-48512543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865-A0EC-4CF4-9CA3-2841B7FF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0B5-4626-42EC-A9EE-A5FBF143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A72-CA95-4E67-8B52-1341BDBB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0C3-223C-480D-A14C-3C3ED808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8C2B-D8FA-42B8-9629-692DE8BB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s://bcis-us-scubadiving.wikispaces.com/file/view/scubadiving.gif&amp;imgrefurl=https://bcis-us-scubadiving.wikispaces.com/Revision%2B1%3Ff%3Dprint&amp;usg=__1Ydt-vxurAcUoiEpMzjMrD-BtHM=&amp;h=291&amp;w=312&amp;sz=5&amp;hl=es&amp;start=3&amp;tbnid=KmK4sj2700Z9LM:&amp;tbnh=109&amp;tbnw=117&amp;prev=/images%3Fq%3Dscubadiving%26gbv%3D2%26hl%3Des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myhappydance.com/images/gymnastics_set_2.jpg&amp;imgrefurl=http://myhappydance.com/product_info.php/products_id/2214&amp;usg=__ZpEi5POgumdKejVRbpTt-tk1suo=&amp;h=341&amp;w=480&amp;sz=23&amp;hl=es&amp;start=18&amp;tbnid=hGOdjuacaW2XHM:&amp;tbnh=92&amp;tbnw=129&amp;prev=/images%3Fq%3DGYMNASTICS%26gbv%3D2%26hl%3De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03280" y="333360"/>
            <a:ext cx="583272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OR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479520"/>
            <a:ext cx="52578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KI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173240"/>
            <a:ext cx="6264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TABLE TEN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03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ICE SKAT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76280"/>
            <a:ext cx="5545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CUBA DIV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579680"/>
            <a:ext cx="49687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GYMNAST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1000" y="333360"/>
            <a:ext cx="5817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5759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WIMM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YNCRONIZED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WIMM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1855800"/>
            <a:ext cx="68407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BUNGY JUMP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04760" y="752400"/>
            <a:ext cx="71344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HANG GLID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33520" y="1414440"/>
            <a:ext cx="44769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PARACHUT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KARA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29080" y="11430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HIK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987480"/>
            <a:ext cx="7417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36720" y="2773440"/>
            <a:ext cx="36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RUG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23920" y="852480"/>
            <a:ext cx="68961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87880" y="2773440"/>
            <a:ext cx="617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ICE HOCKE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84640" y="2773440"/>
            <a:ext cx="437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CRICK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784080"/>
            <a:ext cx="828036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0280" y="2773440"/>
            <a:ext cx="754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BADMINNT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370160"/>
            <a:ext cx="6985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CYCL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523880"/>
            <a:ext cx="87487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CAR RAC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722160"/>
            <a:ext cx="56167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FOOT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5:03:06Z</dcterms:created>
  <dc:creator>rmi</dc:creator>
  <dc:description/>
  <dc:language>en-US</dc:language>
  <cp:lastModifiedBy>Profesor</cp:lastModifiedBy>
  <dcterms:modified xsi:type="dcterms:W3CDTF">2010-04-07T12:24:22Z</dcterms:modified>
  <cp:revision>5</cp:revision>
  <dc:subject/>
  <dc:title>Diapositiva 1</dc:title>
</cp:coreProperties>
</file>